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4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3.jpeg" ContentType="image/jpeg"/>
  <Override PartName="/ppt/media/image45.png" ContentType="image/png"/>
  <Override PartName="/ppt/media/image39.png" ContentType="image/png"/>
  <Override PartName="/ppt/media/image46.gif" ContentType="image/gif"/>
  <Override PartName="/ppt/media/image38.jpeg" ContentType="image/jpeg"/>
  <Override PartName="/ppt/media/image40.jpeg" ContentType="image/jpeg"/>
  <Override PartName="/ppt/media/image44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49.jpeg" ContentType="image/jpeg"/>
  <Override PartName="/ppt/media/image12.png" ContentType="image/png"/>
  <Override PartName="/ppt/media/image30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7970-0DE2-455B-94AA-CD5C81F11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4F3F-E2BB-41F1-BCF8-DDBC893F1373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F2FE-836A-4D19-8EEB-8054BDF8C71C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507-378F-4705-9027-4D123355A91B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22F-C6D7-401C-980D-F98AA008702D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F945-BA98-4824-9323-C7946419F729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8C4-8CF6-413A-9093-177B286AA5D8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727-CD9F-420B-BBCA-AF300C6C66E3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6C6-2579-4478-9739-CAF26279459F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0B7-34B7-4884-B06A-2C045023B93C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3239-DD59-4FD9-A2DD-CF1840B03EE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C810-9FCE-4B31-9B1F-CE9B8D0F9E68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5A24-BB28-4EEF-AB2F-95C6D3691024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9DF7-609A-4A40-AD8D-C9E8A2E04A7D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078-FF21-42DA-BCCF-9F546C2F017D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9FFE-1612-4EFD-A62F-C22C4A3B8F0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D56-42D0-4AF5-8794-709521693338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7C6A-B7B8-4C65-8BE4-3F3B517514B6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C855-1A3A-49EB-BA15-ECA071FC5132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estimated that more than 1.6 million new cases of cancer will be diagnosed in 2015. Prostate cancer is the most common cancer among men (26%), followed by lung (14%) and colon &amp; rectum (8%) cancers. Among women, breast (29%), lung (13%), and colon &amp; rectum (8%) cancers are the most common canc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5515-629A-49A5-8F0B-D496C654F5F2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we will turn our attention to cancer mortality. Lung cancer is by far the leading cause of cancer death among men (28%), followed by prostate (9%) and colon &amp; rectum (8%) cancers. Among women, lung (26%), breast (15%), and colon &amp; rectum (9%) cancers are the leading causes of cancer dea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024-17CE-4E27-9B00-31EAC404C4BA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FA7-3D4F-48AC-A71A-260967F990D3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8DC-B4E2-4D5C-BAD5-992E2B18FAFF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F29F-5B4D-4671-986A-EF6EC69766BD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6DDD-EBF6-419C-BEB6-0C97225C19D2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: 09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 main stages of cell division—DNA replication, mitosis, and cytokinesis—can be seen here in the context of a complete cell cycle. This cycle traditionally is divided into two main phases, interphase and mitotic (o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phase, which are in turn divided into other phase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CDB9-7FCC-4137-993F-86902953970F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5EA4-55E4-4F40-8774-B38BE5E65BB9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68F6-5703-4A61-9F4B-4EE574F8BE2C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76A9-22C7-4233-B0F1-4B5A89D203CB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FEC-45AD-47C2-B5D7-EBF11A63EA4C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D829-4D7B-4873-9A4D-2E20EAB5FEF0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C15-C75E-49AC-ABA4-E48570DFD6C8}" type="slidenum">
              <a:rPr b="0" lang="en-GB" sz="12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F42-1408-4F11-B206-F1DF5DF509B0}" type="slidenum"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17B8-5094-4B94-A111-B1C90CDA844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85E-AC90-4793-8FE3-CFD3549C0138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E836-D9F5-4DC1-9598-682DD4856BC4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AE7-923E-475D-86DD-07EB4395D591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97E-9AAD-49A7-918A-B08A048916F2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3E5-6007-4ACB-ACDF-7927E57AED4A}" type="slidenum">
              <a:rPr b="0" lang="en-US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7A28-CBD0-48FF-A2F3-256EC6E0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B237-FD84-4810-9185-AC62914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3381-50FC-44DA-8BBF-22C11C6F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7D80-342F-404B-AA54-80FFF115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B69D-4BC7-47AD-90D5-DB05FEFB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2F6D-3D8D-44B6-8918-BFD85B3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33F3-F0FE-4829-812B-19BEF26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E02D-89CD-429C-9BB0-8F130F0D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242B-2262-4CDE-88C7-6374BE4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B1DB-92B4-497D-86C1-83E11FA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A65A-DBFB-4929-B852-C82E783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9CCD-BDEF-4F04-993D-6C8D82DB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D0A-BE43-4606-9C47-57D4FD3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C5DF-6B62-4409-A672-CDC40058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E3B4-77B2-4106-BFCE-6FC825BB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4F1-AAEC-40BF-AAB1-796B3C2B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03E-B24D-4305-B1FA-B5D2D913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1749-AFC9-4378-AD76-29A7F3BC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5C1C-6A8B-4DCE-8E3C-143F01B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58F6-9D92-4A4C-B624-951B7FF3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EB22-67F1-4CB3-9C1E-CEA60AD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0D2B-4AFB-4D53-A23F-9FC4DEF7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453-E0CE-4924-83A9-DF0D2EF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92E8-2DA5-4588-A05A-4DD4A0D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F2A4-1B3B-43FA-A18D-BFABAF8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C2B8-549B-42AB-B00E-C22E0695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6580-C70A-4658-9C26-4D1E02C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FF2F-B3C2-4759-86B2-3D9C73D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D0F3-A1A8-4646-8A51-058B97BC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C7BF-CE83-4A6D-9DF5-C6633337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B881-47E5-4DF5-A7AB-1C29367B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C3FD-1617-412F-8F12-2EF1436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1F3A-CA6F-4CF0-BE74-18FE56D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FF5A-EEC5-47D7-99C7-92AA1AD2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3EFB-8BF0-4EFE-A47F-40E5097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A761-6D9F-42D7-9412-F33B74D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35EA-C20B-4B1A-BCE5-193DAC14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5CC0-74E4-4C6E-9677-6F2BE5D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561D-6927-4E64-800B-EA43F0A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4871-041D-4DD3-82FE-DA71AFD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EC7B-B732-4F4A-8CF9-5EEE1FB8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2A11-76FC-47A9-8CC1-24BA711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EE54-ED51-4846-9888-AEC8617A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DC68-FC51-4CA8-BFF5-6584A941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2DF8-A9AA-459A-BC80-D87DEF8D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DB402-8C37-4B4E-8DC7-FBEC2C7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D953-5D43-40C5-AFF7-B517CF8E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6DAFD-38C6-4F90-AF57-A6F8B1C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F84C-361C-4578-AE72-8B62F33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BC91-AA20-40BF-BC97-0F1D0CD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B9AB-D1D1-48AF-A3AC-7120C3D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F118-83BD-4E3E-989E-ECBFA77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7AE4-C7FA-41FA-BE67-210A83A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DE23-21EE-4932-BBEA-2FA9BC0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0432-DDFC-45B1-8094-CD38E08E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875B-5AC9-4FA8-9A83-F7BD2CA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43ACC-1D87-42E8-96A3-6CFF8BA4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2B1B-0745-43E6-9ACA-16340CF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80FF-482D-419C-9ED9-729EA21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F396-9463-4F2B-AD6A-EB99698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67D7-F33C-407B-A9AE-4D39151FBE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F98-1C97-4A22-BCAB-3899660D6D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922A-8BE9-462E-895E-E660E359EC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BC0-8C7C-4C8D-BD81-4624E7717E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DEF-33F6-42C7-89E5-12010FE2A3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heducation.com/sites/0072495855/student_view0/chapter2/animation__mitosis_and_cytokinesis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johnkyrk.com/mitosis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_cycle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Notes: Mitosis &amp; Canc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Objective 9: Analyze how cells grow and reproduce in terms of interphase, mitosis, and cytokinesi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9092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ETA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28600" y="685800"/>
            <a:ext cx="76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hromosomes line up in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iddl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066680" y="5319720"/>
            <a:ext cx="449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rcRect l="0" t="3638" r="2961" b="12728"/>
          <a:stretch/>
        </p:blipFill>
        <p:spPr>
          <a:xfrm>
            <a:off x="0" y="2743200"/>
            <a:ext cx="4025880" cy="4114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meta"/>
          <p:cNvPicPr/>
          <p:nvPr/>
        </p:nvPicPr>
        <p:blipFill>
          <a:blip r:embed="rId2"/>
          <a:stretch/>
        </p:blipFill>
        <p:spPr>
          <a:xfrm>
            <a:off x="4408560" y="1905120"/>
            <a:ext cx="47354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NA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21080" y="1371600"/>
            <a:ext cx="746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entrioles pull chromosomes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part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ister chromatids separat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066680" y="5319720"/>
            <a:ext cx="449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14" name="Picture 5" descr="a-ana"/>
          <p:cNvPicPr/>
          <p:nvPr/>
        </p:nvPicPr>
        <p:blipFill>
          <a:blip r:embed="rId1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"/>
          <p:cNvPicPr/>
          <p:nvPr/>
        </p:nvPicPr>
        <p:blipFill>
          <a:blip r:embed="rId2"/>
          <a:srcRect l="14824" t="0" r="13186" b="3576"/>
          <a:stretch/>
        </p:blipFill>
        <p:spPr>
          <a:xfrm>
            <a:off x="0" y="2743200"/>
            <a:ext cx="2590920" cy="4114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Anaphase"/>
          <p:cNvPicPr/>
          <p:nvPr/>
        </p:nvPicPr>
        <p:blipFill>
          <a:blip r:embed="rId3"/>
          <a:srcRect l="7534" t="11905" r="7723" b="6909"/>
          <a:stretch/>
        </p:blipFill>
        <p:spPr>
          <a:xfrm>
            <a:off x="2514600" y="3276720"/>
            <a:ext cx="34290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T</a:t>
            </a:r>
            <a:r>
              <a:rPr b="1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elopha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318" name="Object 10"/>
          <p:cNvGraphicFramePr/>
          <p:nvPr/>
        </p:nvGraphicFramePr>
        <p:xfrm>
          <a:off x="3657600" y="3657600"/>
          <a:ext cx="28576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657600"/>
                    <a:ext cx="28576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3"/>
          <p:cNvSpPr/>
          <p:nvPr/>
        </p:nvSpPr>
        <p:spPr>
          <a:xfrm>
            <a:off x="304920" y="1371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Se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wo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nuclei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Nuclear membrane returns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Spindle breaks down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hromosomes spread out into chromatin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21" name="Picture 8" descr="telophase"/>
          <p:cNvPicPr/>
          <p:nvPr/>
        </p:nvPicPr>
        <p:blipFill>
          <a:blip r:embed="rId3"/>
          <a:stretch/>
        </p:blipFill>
        <p:spPr>
          <a:xfrm>
            <a:off x="6435720" y="3962520"/>
            <a:ext cx="2708280" cy="2895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" descr=""/>
          <p:cNvPicPr/>
          <p:nvPr/>
        </p:nvPicPr>
        <p:blipFill>
          <a:blip r:embed="rId4"/>
          <a:stretch/>
        </p:blipFill>
        <p:spPr>
          <a:xfrm rot="5400000">
            <a:off x="628200" y="3409920"/>
            <a:ext cx="25527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YTO</a:t>
            </a:r>
            <a:r>
              <a:rPr b="1" lang="en-US" sz="4000" spc="-1" strike="noStrike">
                <a:solidFill>
                  <a:srgbClr val="2f2b20"/>
                </a:solidFill>
                <a:latin typeface="Times New Roman"/>
                <a:ea typeface="MS PGothic"/>
              </a:rPr>
              <a:t>KINESI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28600" y="1447920"/>
            <a:ext cx="799452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Cyto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plasm splits into </a:t>
            </a:r>
            <a:r>
              <a:rPr b="0" lang="en-US" sz="3600" spc="-1" strike="noStrike">
                <a:solidFill>
                  <a:srgbClr val="675e47"/>
                </a:solidFill>
                <a:latin typeface="Times New Roman"/>
                <a:ea typeface="ＭＳ Ｐゴシック"/>
              </a:rPr>
              <a:t>two 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ells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Usually happens with telophase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In Plants: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A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cell plate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is formed.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In Animals: 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A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ＭＳ Ｐゴシック"/>
              </a:rPr>
              <a:t>cleavage furrow 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is formed.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2948040" cy="1866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256356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ytokinesis in plan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28" name="Picture 7" descr="teloph"/>
          <p:cNvPicPr/>
          <p:nvPr/>
        </p:nvPicPr>
        <p:blipFill>
          <a:blip r:embed="rId1"/>
          <a:srcRect l="4331" t="0" r="4331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FG09_012"/>
          <p:cNvPicPr/>
          <p:nvPr/>
        </p:nvPicPr>
        <p:blipFill>
          <a:blip r:embed="rId2"/>
          <a:srcRect l="0" t="18099" r="0" b="33336"/>
          <a:stretch/>
        </p:blipFill>
        <p:spPr>
          <a:xfrm>
            <a:off x="228600" y="13716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330" name="Line 8"/>
          <p:cNvSpPr/>
          <p:nvPr/>
        </p:nvSpPr>
        <p:spPr>
          <a:xfrm flipH="1">
            <a:off x="4419720" y="5257800"/>
            <a:ext cx="2133360" cy="380880"/>
          </a:xfrm>
          <a:prstGeom prst="line">
            <a:avLst/>
          </a:prstGeom>
          <a:ln w="25560">
            <a:solidFill>
              <a:srgbClr val="849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24852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ell plate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4880" y="620640"/>
            <a:ext cx="73404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ytokinesis in Anim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33" name="Picture 5" descr="daughtercells"/>
          <p:cNvPicPr/>
          <p:nvPr/>
        </p:nvPicPr>
        <p:blipFill>
          <a:blip r:embed="rId1"/>
          <a:stretch/>
        </p:blipFill>
        <p:spPr>
          <a:xfrm>
            <a:off x="2286000" y="1676520"/>
            <a:ext cx="4807080" cy="471312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>
            <a:off x="6019560" y="2819520"/>
            <a:ext cx="1523880" cy="533160"/>
          </a:xfrm>
          <a:prstGeom prst="line">
            <a:avLst/>
          </a:prstGeom>
          <a:ln w="25560">
            <a:solidFill>
              <a:srgbClr val="849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7696080" y="2362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Cleavage furrow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rcRect l="931" t="6973" r="65593" b="58306"/>
          <a:stretch/>
        </p:blipFill>
        <p:spPr>
          <a:xfrm>
            <a:off x="3505320" y="4572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2"/>
          <a:srcRect l="33968" t="7439" r="33486" b="57839"/>
          <a:stretch/>
        </p:blipFill>
        <p:spPr>
          <a:xfrm>
            <a:off x="6477120" y="16765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rcRect l="931" t="44643" r="65593" b="19402"/>
          <a:stretch/>
        </p:blipFill>
        <p:spPr>
          <a:xfrm>
            <a:off x="5257800" y="44197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"/>
          <p:cNvPicPr/>
          <p:nvPr/>
        </p:nvPicPr>
        <p:blipFill>
          <a:blip r:embed="rId4"/>
          <a:srcRect l="33486" t="45417" r="33968" b="19868"/>
          <a:stretch/>
        </p:blipFill>
        <p:spPr>
          <a:xfrm>
            <a:off x="1523880" y="44956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"/>
          <p:cNvPicPr/>
          <p:nvPr/>
        </p:nvPicPr>
        <p:blipFill>
          <a:blip r:embed="rId5"/>
          <a:srcRect l="66037" t="45417" r="1413" b="2501"/>
          <a:stretch/>
        </p:blipFill>
        <p:spPr>
          <a:xfrm>
            <a:off x="152280" y="1066680"/>
            <a:ext cx="2667240" cy="3200400"/>
          </a:xfrm>
          <a:prstGeom prst="rect">
            <a:avLst/>
          </a:prstGeom>
          <a:ln w="0">
            <a:noFill/>
          </a:ln>
        </p:spPr>
      </p:pic>
      <p:cxnSp>
        <p:nvCxnSpPr>
          <p:cNvPr id="341" name="AutoShape 10"/>
          <p:cNvCxnSpPr/>
          <p:nvPr/>
        </p:nvCxnSpPr>
        <p:spPr>
          <a:xfrm rot="5400000">
            <a:off x="8114760" y="4076640"/>
            <a:ext cx="762480" cy="534240"/>
          </a:xfrm>
          <a:prstGeom prst="curvedConnector5">
            <a:avLst>
              <a:gd name="adj1" fmla="val 92867"/>
              <a:gd name="adj2" fmla="val 49966"/>
              <a:gd name="adj3" fmla="val 92867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2" name="AutoShape 11"/>
          <p:cNvCxnSpPr/>
          <p:nvPr/>
        </p:nvCxnSpPr>
        <p:spPr>
          <a:xfrm>
            <a:off x="6629040" y="914040"/>
            <a:ext cx="762840" cy="686520"/>
          </a:xfrm>
          <a:prstGeom prst="curvedConnector5">
            <a:avLst>
              <a:gd name="adj1" fmla="val 81869"/>
              <a:gd name="adj2" fmla="val 50000"/>
              <a:gd name="adj3" fmla="val 81869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3" name="AutoShape 13"/>
          <p:cNvCxnSpPr/>
          <p:nvPr/>
        </p:nvCxnSpPr>
        <p:spPr>
          <a:xfrm flipV="1" rot="16200000">
            <a:off x="609120" y="4571280"/>
            <a:ext cx="991440" cy="381600"/>
          </a:xfrm>
          <a:prstGeom prst="curvedConnector5">
            <a:avLst>
              <a:gd name="adj1" fmla="val -290"/>
              <a:gd name="adj2" fmla="val 49952"/>
              <a:gd name="adj3" fmla="val -290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4" name="AutoShape 14"/>
          <p:cNvCxnSpPr/>
          <p:nvPr/>
        </p:nvCxnSpPr>
        <p:spPr>
          <a:xfrm flipH="1" flipV="1">
            <a:off x="4342680" y="5180760"/>
            <a:ext cx="762840" cy="1080"/>
          </a:xfrm>
          <a:prstGeom prst="straightConnector1">
            <a:avLst/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  <p:cxnSp>
        <p:nvCxnSpPr>
          <p:cNvPr id="345" name="AutoShape 16"/>
          <p:cNvCxnSpPr/>
          <p:nvPr/>
        </p:nvCxnSpPr>
        <p:spPr>
          <a:xfrm flipV="1">
            <a:off x="2361960" y="838080"/>
            <a:ext cx="99108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7080">
            <a:solidFill>
              <a:srgbClr val="2f2b20"/>
            </a:solidFill>
            <a:miter/>
            <a:tailEnd len="med" type="triangle" w="med"/>
          </a:ln>
        </p:spPr>
      </p:cxn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2362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he Cell Cyc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47" name="Picture 5" descr="mitosis movie"/>
          <p:cNvPicPr/>
          <p:nvPr/>
        </p:nvPicPr>
        <p:blipFill>
          <a:blip r:embed="rId1"/>
          <a:stretch/>
        </p:blipFill>
        <p:spPr>
          <a:xfrm>
            <a:off x="2743200" y="152280"/>
            <a:ext cx="6284880" cy="6705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ell Cycle Revie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http://highered.mheducation.com/sites/0072495855/student_view0/chapter2/animation__mitosis_and_cytokinesis.htm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What Phases Can You Se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51" name="Picture 4" descr="allium1"/>
          <p:cNvPicPr/>
          <p:nvPr/>
        </p:nvPicPr>
        <p:blipFill>
          <a:blip r:embed="rId1"/>
          <a:srcRect l="0" t="0" r="0" b="32521"/>
          <a:stretch/>
        </p:blipFill>
        <p:spPr>
          <a:xfrm>
            <a:off x="380880" y="1828800"/>
            <a:ext cx="8458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4360" y="620640"/>
            <a:ext cx="73422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he Cell Cycle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029200" cy="4838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onion root tip cells"/>
          <p:cNvPicPr/>
          <p:nvPr/>
        </p:nvPicPr>
        <p:blipFill>
          <a:blip r:embed="rId1"/>
          <a:srcRect l="9484" t="13206" r="3449" b="7536"/>
          <a:stretch/>
        </p:blipFill>
        <p:spPr>
          <a:xfrm>
            <a:off x="990720" y="1752480"/>
            <a:ext cx="7696080" cy="4572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152280" y="9144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49a0a"/>
                </a:solidFill>
                <a:latin typeface="Showcard Gothic"/>
                <a:ea typeface="ＭＳ Ｐゴシック"/>
              </a:rPr>
              <a:t>Find the stages of mitosis in these </a:t>
            </a:r>
            <a:r>
              <a:rPr b="1" lang="en-US" sz="2800" spc="-1" strike="noStrike" u="sng">
                <a:solidFill>
                  <a:srgbClr val="849a0a"/>
                </a:solidFill>
                <a:uFillTx/>
                <a:latin typeface="Showcard Gothic"/>
                <a:ea typeface="ＭＳ Ｐゴシック"/>
              </a:rPr>
              <a:t>onion</a:t>
            </a:r>
            <a:r>
              <a:rPr b="1" lang="en-US" sz="2800" spc="-1" strike="noStrike">
                <a:solidFill>
                  <a:srgbClr val="849a0a"/>
                </a:solidFill>
                <a:latin typeface="Showcard Gothic"/>
                <a:ea typeface="ＭＳ Ｐゴシック"/>
              </a:rPr>
              <a:t> cells: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1219320" y="4266720"/>
            <a:ext cx="685800" cy="228600"/>
          </a:xfrm>
          <a:prstGeom prst="line">
            <a:avLst/>
          </a:prstGeom>
          <a:ln w="127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1601280" y="2738880"/>
            <a:ext cx="302760" cy="849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4719600" y="2239920"/>
            <a:ext cx="313920" cy="158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 flipV="1">
            <a:off x="3048120" y="5943600"/>
            <a:ext cx="304560" cy="76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 flipV="1">
            <a:off x="5867280" y="1980720"/>
            <a:ext cx="685800" cy="2286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V="1">
            <a:off x="7162920" y="2666520"/>
            <a:ext cx="685800" cy="2286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0" name="Line 22"/>
          <p:cNvSpPr/>
          <p:nvPr/>
        </p:nvSpPr>
        <p:spPr>
          <a:xfrm flipV="1">
            <a:off x="2743200" y="5943240"/>
            <a:ext cx="685800" cy="228600"/>
          </a:xfrm>
          <a:prstGeom prst="line">
            <a:avLst/>
          </a:prstGeom>
          <a:ln w="127080">
            <a:solidFill>
              <a:srgbClr val="849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5105520" y="4495680"/>
            <a:ext cx="838080" cy="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2" name="Line 24"/>
          <p:cNvSpPr/>
          <p:nvPr/>
        </p:nvSpPr>
        <p:spPr>
          <a:xfrm>
            <a:off x="2590920" y="3505320"/>
            <a:ext cx="68580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4343400" y="2286000"/>
            <a:ext cx="762120" cy="0"/>
          </a:xfrm>
          <a:prstGeom prst="line">
            <a:avLst/>
          </a:prstGeom>
          <a:ln w="127080">
            <a:solidFill>
              <a:srgbClr val="a9a5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1219320" y="2743200"/>
            <a:ext cx="761760" cy="0"/>
          </a:xfrm>
          <a:prstGeom prst="line">
            <a:avLst/>
          </a:prstGeom>
          <a:ln w="127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65" name="Line 27"/>
          <p:cNvSpPr/>
          <p:nvPr/>
        </p:nvSpPr>
        <p:spPr>
          <a:xfrm flipV="1">
            <a:off x="7696080" y="3657240"/>
            <a:ext cx="685800" cy="228600"/>
          </a:xfrm>
          <a:prstGeom prst="line">
            <a:avLst/>
          </a:prstGeom>
          <a:ln w="127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Ani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6520" y="1981080"/>
            <a:ext cx="3811680" cy="4114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itosis2d anim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mitosis anim 2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d25814"/>
                </a:solidFill>
                <a:uFillTx/>
                <a:latin typeface="Cambria"/>
                <a:hlinkClick r:id="rId1"/>
              </a:rPr>
              <a:t>Cell Cycle-click here!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Binary Fission</a:t>
            </a:r>
            <a:endParaRPr b="0" lang="en-US" sz="8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8e8d8c"/>
                </a:solidFill>
                <a:latin typeface="Calibri"/>
              </a:rPr>
              <a:t>Prokaryotic cells</a:t>
            </a:r>
            <a:endParaRPr b="0" lang="en-US" sz="6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Binary Fis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7058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Times New Roman"/>
              <a:ea typeface="MS PGothic"/>
            </a:endParaRPr>
          </a:p>
        </p:txBody>
      </p:sp>
      <p:pic>
        <p:nvPicPr>
          <p:cNvPr id="377" name="Picture 4" descr="6909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Times New Roman"/>
              <a:ea typeface="MS P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11680" cy="4114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82" name="Picture 5" descr="96444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964640" cy="19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Cancer: uncontrolled cell division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2160" y="3852720"/>
            <a:ext cx="613584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https://www.youtube.com/watch?v=xZ0aksbiiXw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cycle"/>
          <p:cNvPicPr/>
          <p:nvPr/>
        </p:nvPicPr>
        <p:blipFill>
          <a:blip r:embed="rId1"/>
          <a:stretch/>
        </p:blipFill>
        <p:spPr>
          <a:xfrm>
            <a:off x="1523880" y="1219320"/>
            <a:ext cx="5943600" cy="5294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he Cell Cyc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Times New Roman"/>
              </a:rPr>
              <a:t>Cancer Fast Fac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Cancer is one of the most common diseases in the developed worl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1 in 4 deaths are due to canc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1 in 17 deaths are due to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ung canc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Lung cancer is the most common cancer in m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Breast cancer is the most common cancer in wom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2120" indent="-20772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There are over 200 different forms of canc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75e47"/>
                </a:solidFill>
                <a:latin typeface="Times New Roman"/>
                <a:ea typeface="MS PGothic"/>
              </a:rPr>
              <a:t>What is Cancer?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is </a:t>
            </a:r>
            <a:r>
              <a:rPr b="0" lang="en-US" sz="2800" spc="-1" strike="noStrike" u="sng">
                <a:solidFill>
                  <a:srgbClr val="2f2b20"/>
                </a:solidFill>
                <a:uFillTx/>
                <a:latin typeface="Times New Roman"/>
                <a:ea typeface="MS PGothic"/>
              </a:rPr>
              <a:t>uncontrolled cell divis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The cells don’t stop divid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Like a car with no brakes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yclins</a:t>
            </a:r>
            <a:r>
              <a:rPr b="0" i="1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are proteins that</a:t>
            </a:r>
            <a:r>
              <a:rPr b="0" i="1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put the brakes on the cell cycl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an spread to new places, which is called 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metastasi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ells form </a:t>
            </a:r>
            <a:r>
              <a:rPr b="1" i="1" lang="en-US" sz="2800" spc="-1" strike="noStrike">
                <a:solidFill>
                  <a:srgbClr val="675e47"/>
                </a:solidFill>
                <a:latin typeface="Times New Roman"/>
                <a:ea typeface="MS PGothic"/>
              </a:rPr>
              <a:t>tumors</a:t>
            </a:r>
            <a:r>
              <a:rPr b="0" lang="en-US" sz="2800" spc="-1" strike="noStrike">
                <a:solidFill>
                  <a:srgbClr val="2f2b20"/>
                </a:solidFill>
                <a:latin typeface="Times New Roman"/>
                <a:ea typeface="MS PGothic"/>
              </a:rPr>
              <a:t>: a mass of cells that have divided uncontrollably and can damage surrounding tissu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91" name="Picture 4" descr="Cancer_cell_division"/>
          <p:cNvPicPr/>
          <p:nvPr/>
        </p:nvPicPr>
        <p:blipFill>
          <a:blip r:embed="rId1"/>
          <a:srcRect l="3921" t="5887" r="3921" b="4706"/>
          <a:stretch/>
        </p:blipFill>
        <p:spPr>
          <a:xfrm>
            <a:off x="5562720" y="1066680"/>
            <a:ext cx="358128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75e47"/>
                </a:solidFill>
                <a:latin typeface="Times New Roman"/>
              </a:rPr>
              <a:t>What causes cancer?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Cancer arises from the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mutation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 of a normal g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Mutated genes that cause cancer are called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oncogenes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It is thought that several mutations need to occur to give rise to canc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Cells that are old or not functioning properly normally self destruct and are replaced by new cells. (Arrested in G0 or programmed to die=apoptosi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However, cancerous cells do not self destruct and continue to divide rapidly producing millions of new cancerous cell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A factor which brings about a mutation is called a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mutag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Any agent that causes cancer is called a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carcinogen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 and is described as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carcinogenic</a:t>
            </a:r>
            <a:r>
              <a:rPr b="0" lang="en-GB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So some mutagens are carcinogen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-1440" y="-7920"/>
            <a:ext cx="9148680" cy="6873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3344760" y="51912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511440" y="105408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4659480" y="219240"/>
            <a:ext cx="411120" cy="41112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8" name="Oval 6"/>
          <p:cNvSpPr/>
          <p:nvPr/>
        </p:nvSpPr>
        <p:spPr>
          <a:xfrm>
            <a:off x="4672080" y="973080"/>
            <a:ext cx="411120" cy="41112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1906560" y="1787400"/>
            <a:ext cx="534960" cy="51912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0" name="Oval 8"/>
          <p:cNvSpPr/>
          <p:nvPr/>
        </p:nvSpPr>
        <p:spPr>
          <a:xfrm>
            <a:off x="2274840" y="5557680"/>
            <a:ext cx="534960" cy="51768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1" name="Oval 9"/>
          <p:cNvSpPr/>
          <p:nvPr/>
        </p:nvSpPr>
        <p:spPr>
          <a:xfrm>
            <a:off x="6770520" y="5376960"/>
            <a:ext cx="411480" cy="412560"/>
          </a:xfrm>
          <a:prstGeom prst="ellipse">
            <a:avLst/>
          </a:prstGeom>
          <a:noFill/>
          <a:ln cap="rnd" w="28440">
            <a:solidFill>
              <a:srgbClr val="9c27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4565520" y="219240"/>
            <a:ext cx="890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5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4578480" y="1003320"/>
            <a:ext cx="8902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5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1849320" y="1757520"/>
            <a:ext cx="892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859040" y="192564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209680" y="554040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219400" y="5707080"/>
            <a:ext cx="890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6676920" y="5394240"/>
            <a:ext cx="890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9c271e"/>
                </a:solidFill>
                <a:latin typeface="Arial Black"/>
                <a:ea typeface="ＭＳ Ｐゴシック"/>
              </a:rPr>
              <a:t>DNA</a:t>
            </a:r>
            <a:endParaRPr b="0" lang="en-US" sz="15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9" name="Freeform 17"/>
          <p:cNvSpPr/>
          <p:nvPr/>
        </p:nvSpPr>
        <p:spPr>
          <a:xfrm>
            <a:off x="1541520" y="2744640"/>
            <a:ext cx="377640" cy="2743200"/>
          </a:xfrm>
          <a:custGeom>
            <a:avLst/>
            <a:gdLst>
              <a:gd name="textAreaLeft" fmla="*/ 0 w 377640"/>
              <a:gd name="textAreaRight" fmla="*/ 378000 w 37764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64" h="1920">
                <a:moveTo>
                  <a:pt x="264" y="1920"/>
                </a:moveTo>
                <a:cubicBezTo>
                  <a:pt x="187" y="1735"/>
                  <a:pt x="111" y="1551"/>
                  <a:pt x="72" y="1344"/>
                </a:cubicBezTo>
                <a:cubicBezTo>
                  <a:pt x="32" y="1136"/>
                  <a:pt x="0" y="895"/>
                  <a:pt x="24" y="672"/>
                </a:cubicBezTo>
                <a:cubicBezTo>
                  <a:pt x="47" y="448"/>
                  <a:pt x="131" y="224"/>
                  <a:pt x="216" y="0"/>
                </a:cubicBezTo>
              </a:path>
            </a:pathLst>
          </a:custGeom>
          <a:noFill/>
          <a:ln w="28440">
            <a:solidFill>
              <a:srgbClr val="2f2b2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0" name="AutoShape 18"/>
          <p:cNvSpPr/>
          <p:nvPr/>
        </p:nvSpPr>
        <p:spPr>
          <a:xfrm rot="1110600">
            <a:off x="1743120" y="2679840"/>
            <a:ext cx="136440" cy="274320"/>
          </a:xfrm>
          <a:prstGeom prst="triangle">
            <a:avLst>
              <a:gd name="adj" fmla="val 50000"/>
            </a:avLst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1" name="Freeform 19"/>
          <p:cNvSpPr/>
          <p:nvPr/>
        </p:nvSpPr>
        <p:spPr>
          <a:xfrm>
            <a:off x="5276880" y="960480"/>
            <a:ext cx="2489040" cy="4116240"/>
          </a:xfrm>
          <a:custGeom>
            <a:avLst/>
            <a:gdLst/>
            <a:ahLst/>
            <a:rect l="l" t="t" r="r" b="b"/>
            <a:pathLst>
              <a:path w="1696" h="2832">
                <a:moveTo>
                  <a:pt x="0" y="0"/>
                </a:moveTo>
                <a:cubicBezTo>
                  <a:pt x="416" y="152"/>
                  <a:pt x="832" y="304"/>
                  <a:pt x="1104" y="576"/>
                </a:cubicBezTo>
                <a:cubicBezTo>
                  <a:pt x="1376" y="848"/>
                  <a:pt x="1568" y="1256"/>
                  <a:pt x="1632" y="1632"/>
                </a:cubicBezTo>
                <a:cubicBezTo>
                  <a:pt x="1696" y="2008"/>
                  <a:pt x="1592" y="2420"/>
                  <a:pt x="1488" y="2832"/>
                </a:cubicBezTo>
              </a:path>
            </a:pathLst>
          </a:custGeom>
          <a:noFill/>
          <a:ln w="28440">
            <a:solidFill>
              <a:srgbClr val="2f2b2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2" name="AutoShape 20"/>
          <p:cNvSpPr/>
          <p:nvPr/>
        </p:nvSpPr>
        <p:spPr>
          <a:xfrm rot="12520800">
            <a:off x="7362720" y="4939560"/>
            <a:ext cx="136800" cy="274680"/>
          </a:xfrm>
          <a:prstGeom prst="triangle">
            <a:avLst>
              <a:gd name="adj" fmla="val 50000"/>
            </a:avLst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4856040" y="3216240"/>
            <a:ext cx="1508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G</a:t>
            </a:r>
            <a:r>
              <a:rPr b="0" lang="en-US" sz="1600" spc="-1" strike="noStrike" baseline="-25000">
                <a:solidFill>
                  <a:srgbClr val="2f2b20"/>
                </a:solidFill>
                <a:latin typeface="Arial Black"/>
                <a:ea typeface="ＭＳ Ｐゴシック"/>
              </a:rPr>
              <a:t>1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Cell growth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3627360" y="4660920"/>
            <a:ext cx="22622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DNA replication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5" name="Text Box 23"/>
          <p:cNvSpPr/>
          <p:nvPr/>
        </p:nvSpPr>
        <p:spPr>
          <a:xfrm>
            <a:off x="2502000" y="3430440"/>
            <a:ext cx="226044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G</a:t>
            </a:r>
            <a:r>
              <a:rPr b="0" lang="en-US" sz="1600" spc="-1" strike="noStrike" baseline="-25000">
                <a:solidFill>
                  <a:srgbClr val="2f2b20"/>
                </a:solidFill>
                <a:latin typeface="Arial Black"/>
                <a:ea typeface="ＭＳ Ｐゴシック"/>
              </a:rPr>
              <a:t>2</a:t>
            </a: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                     Cell growth preparation for division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6" name="Text Box 24"/>
          <p:cNvSpPr/>
          <p:nvPr/>
        </p:nvSpPr>
        <p:spPr>
          <a:xfrm rot="3148800">
            <a:off x="3283920" y="2774160"/>
            <a:ext cx="1509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Mitosi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7" name="Text Box 25"/>
          <p:cNvSpPr/>
          <p:nvPr/>
        </p:nvSpPr>
        <p:spPr>
          <a:xfrm rot="5016600">
            <a:off x="3686040" y="2632320"/>
            <a:ext cx="1784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Cytokinesi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04840" y="334800"/>
            <a:ext cx="26733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Mitotic Phase (M)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508040" y="685800"/>
            <a:ext cx="1986120" cy="123516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204840" y="4035600"/>
            <a:ext cx="1714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Interpha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1533600" y="4254480"/>
            <a:ext cx="890640" cy="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204840" y="6299280"/>
            <a:ext cx="1714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Interpha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3" name="Line 31"/>
          <p:cNvSpPr/>
          <p:nvPr/>
        </p:nvSpPr>
        <p:spPr>
          <a:xfrm>
            <a:off x="1576440" y="6518160"/>
            <a:ext cx="1233360" cy="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4" name="Line 32"/>
          <p:cNvSpPr/>
          <p:nvPr/>
        </p:nvSpPr>
        <p:spPr>
          <a:xfrm flipV="1">
            <a:off x="2809800" y="5900400"/>
            <a:ext cx="754200" cy="61740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7264440" y="1363680"/>
            <a:ext cx="1712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 Black"/>
                <a:ea typeface="ＭＳ Ｐゴシック"/>
              </a:rPr>
              <a:t>Interpha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26" name="Line 34"/>
          <p:cNvSpPr/>
          <p:nvPr/>
        </p:nvSpPr>
        <p:spPr>
          <a:xfrm flipH="1">
            <a:off x="6578280" y="1714680"/>
            <a:ext cx="1165320" cy="961920"/>
          </a:xfrm>
          <a:prstGeom prst="line">
            <a:avLst/>
          </a:prstGeom>
          <a:ln w="284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104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Cancer cells do not respond to the proteins that regulate the cell cyc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Proteins within the cell control the cell cyc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Signals affecting critical checkpoints determine whether the cell will divide  (cyclins, kinas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rcRect l="0" t="0" r="0" b="11742"/>
          <a:stretch/>
        </p:blipFill>
        <p:spPr>
          <a:xfrm>
            <a:off x="2660760" y="3581280"/>
            <a:ext cx="4025880" cy="27021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6"/>
          <p:cNvSpPr/>
          <p:nvPr/>
        </p:nvSpPr>
        <p:spPr>
          <a:xfrm>
            <a:off x="2286000" y="3581280"/>
            <a:ext cx="1459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G</a:t>
            </a:r>
            <a:r>
              <a:rPr b="1" lang="en-US" sz="1400" spc="-1" strike="noStrike" baseline="-25000">
                <a:solidFill>
                  <a:srgbClr val="2f2b20"/>
                </a:solidFill>
                <a:latin typeface="Arial"/>
                <a:ea typeface="ＭＳ Ｐゴシック"/>
              </a:rPr>
              <a:t>1</a:t>
            </a: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 checkpoint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 flipH="1" flipV="1">
            <a:off x="3745080" y="3715920"/>
            <a:ext cx="271440" cy="136440"/>
          </a:xfrm>
          <a:prstGeom prst="line">
            <a:avLst/>
          </a:prstGeom>
          <a:ln w="158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2209680" y="6156360"/>
            <a:ext cx="1535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M checkpoint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038480" y="6224760"/>
            <a:ext cx="151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G</a:t>
            </a:r>
            <a:r>
              <a:rPr b="1" lang="en-US" sz="1400" spc="-1" strike="noStrike" baseline="-25000">
                <a:solidFill>
                  <a:srgbClr val="2f2b20"/>
                </a:solidFill>
                <a:latin typeface="Arial"/>
                <a:ea typeface="ＭＳ Ｐゴシック"/>
              </a:rPr>
              <a:t>2</a:t>
            </a: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 checkpoint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4" name="Line 10"/>
          <p:cNvSpPr/>
          <p:nvPr/>
        </p:nvSpPr>
        <p:spPr>
          <a:xfrm flipH="1">
            <a:off x="3472920" y="5952960"/>
            <a:ext cx="203400" cy="203400"/>
          </a:xfrm>
          <a:prstGeom prst="line">
            <a:avLst/>
          </a:prstGeom>
          <a:ln w="158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4016520" y="6087960"/>
            <a:ext cx="66600" cy="203400"/>
          </a:xfrm>
          <a:prstGeom prst="line">
            <a:avLst/>
          </a:prstGeom>
          <a:ln w="1584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4287960" y="4462560"/>
            <a:ext cx="9475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Control</a:t>
            </a:r>
            <a:br>
              <a:rPr sz="1400"/>
            </a:br>
            <a:r>
              <a:rPr b="1" lang="en-US" sz="1400" spc="-1" strike="noStrike">
                <a:solidFill>
                  <a:srgbClr val="2f2b20"/>
                </a:solidFill>
                <a:latin typeface="Arial"/>
                <a:ea typeface="ＭＳ Ｐゴシック"/>
              </a:rPr>
              <a:t>system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662940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Figure 8.9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raits of cancer cel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1. Independent of GROW signal from other cells often, they simply divide independently and very fa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Caused by oncogen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2.  Ignores STOP signal causing defective damage control, so problems not corrected. 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Mutation in tumor suppressor genes.  Ex. </a:t>
            </a:r>
            <a:r>
              <a:rPr b="0" i="1" lang="en-US" sz="2000" spc="-1" strike="noStrike">
                <a:solidFill>
                  <a:srgbClr val="2f2b20"/>
                </a:solidFill>
                <a:latin typeface="Georgia"/>
              </a:rPr>
              <a:t>p53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raits of cancer cells, continue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3.  No cell suicide (apoptosis)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If this occurs, treatments which damage dividing cells may not wor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4.  No limit to cell divisions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raits of cancer cells, continue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5.  Angiogenesis - formation of blood vess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Allows for necessary nutrients to be supplied to the growing tum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6.  Metastasis - ability to move to other tissues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benign: do not move from tumor site</a:t>
            </a: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Georgia"/>
              </a:rPr>
              <a:t>malignant: invasive cells, can travel in blood and lymph system and cause cancer in other parts of the bod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Types Of Cancer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lassification of canc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Carcinomas- cancer in epithelial tissue, (ie. skin or lining or org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Sarcomas- more rare form of cancer that arises in the bone, fat or muscl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Lymphomas- cancer in your lymph nodes and white blood cells, ie immune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Leukemias- cancer in bone marrow, blood forming tissue, which results in abnormal white blood cells (leukocyte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ELL CYC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38080" y="18288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ick here:  </a:t>
            </a:r>
            <a:r>
              <a:rPr b="0" lang="en-US" sz="4000" spc="-1" strike="noStrike" u="sng">
                <a:solidFill>
                  <a:srgbClr val="d25814"/>
                </a:solidFill>
                <a:uFillTx/>
                <a:latin typeface="Times New Roman"/>
                <a:ea typeface="ＭＳ Ｐゴシック"/>
                <a:hlinkClick r:id="rId1"/>
              </a:rPr>
              <a:t>cells alive cell cycl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71" name="Picture 4" descr="mitosis diagrammmmmm"/>
          <p:cNvPicPr/>
          <p:nvPr/>
        </p:nvPicPr>
        <p:blipFill>
          <a:blip r:embed="rId2"/>
          <a:stretch/>
        </p:blipFill>
        <p:spPr>
          <a:xfrm>
            <a:off x="762120" y="2819520"/>
            <a:ext cx="3136680" cy="35812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5"/>
          <p:cNvSpPr/>
          <p:nvPr/>
        </p:nvSpPr>
        <p:spPr>
          <a:xfrm>
            <a:off x="4952880" y="3048120"/>
            <a:ext cx="3962520" cy="2514600"/>
          </a:xfrm>
          <a:prstGeom prst="cloudCallout">
            <a:avLst>
              <a:gd name="adj1" fmla="val -58773"/>
              <a:gd name="adj2" fmla="val 63953"/>
            </a:avLst>
          </a:prstGeom>
          <a:noFill/>
          <a:ln w="12708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49a0a"/>
                </a:solidFill>
                <a:latin typeface="Times New Roman"/>
                <a:ea typeface="ＭＳ Ｐゴシック"/>
              </a:rPr>
              <a:t>The cell cycle makes 2 cells that are exactly the same!!!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75e47"/>
                </a:solidFill>
                <a:latin typeface="Times New Roman"/>
              </a:rPr>
              <a:t>Benign or malignant?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Benign tumour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do not spread from their site of origin, but can crowd out (squash) surrounding cells eg brain tumour, wart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Malignant tumour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can spread from the original site and cause </a:t>
            </a:r>
            <a:r>
              <a:rPr b="0" lang="en-GB" sz="2800" spc="-1" strike="noStrike" u="sng">
                <a:solidFill>
                  <a:srgbClr val="2f2b20"/>
                </a:solidFill>
                <a:uFillTx/>
                <a:latin typeface="Times New Roman"/>
              </a:rPr>
              <a:t>secondary tumour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>
              <a:lnSpc>
                <a:spcPct val="80000"/>
              </a:lnSpc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2b20"/>
                </a:solidFill>
                <a:latin typeface="Times New Roman"/>
              </a:rPr>
              <a:t>This is called </a:t>
            </a:r>
            <a:r>
              <a:rPr b="0" lang="en-GB" sz="2600" spc="-1" strike="noStrike" u="sng">
                <a:solidFill>
                  <a:srgbClr val="2f2b20"/>
                </a:solidFill>
                <a:uFillTx/>
                <a:latin typeface="Times New Roman"/>
              </a:rPr>
              <a:t>metastasis</a:t>
            </a:r>
            <a:r>
              <a:rPr b="0" lang="en-GB" sz="2600" spc="-1" strike="noStrike">
                <a:solidFill>
                  <a:srgbClr val="2f2b20"/>
                </a:solidFill>
                <a:latin typeface="Times New Roman"/>
              </a:rPr>
              <a:t>. They interfere with neighbouring cells and can block blood vessels, the gut, glands, lungs etc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Why are secondary tumours so bad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>
              <a:lnSpc>
                <a:spcPct val="80000"/>
              </a:lnSpc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2b20"/>
                </a:solidFill>
                <a:latin typeface="Times New Roman"/>
              </a:rPr>
              <a:t>Both types of tumour can tire the body out as they both need a huge amount of nutrients to sustain the rapid growth and division of the cells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Cancer Cel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Calibri"/>
              </a:rPr>
              <a:t>______________ damage DNA to cause can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Radiation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Virus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Chemicals in the environment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10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Cigarette smok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85720" y="1087560"/>
            <a:ext cx="357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49a0a"/>
                </a:solidFill>
                <a:latin typeface="Times New Roman"/>
                <a:ea typeface="ＭＳ Ｐゴシック"/>
              </a:rPr>
              <a:t>Carcinogens</a:t>
            </a:r>
            <a:endParaRPr b="0" lang="en-US" sz="5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51" name="Picture 5" descr="Sunburn2-main_Full"/>
          <p:cNvPicPr/>
          <p:nvPr/>
        </p:nvPicPr>
        <p:blipFill>
          <a:blip r:embed="rId1"/>
          <a:stretch/>
        </p:blipFill>
        <p:spPr>
          <a:xfrm>
            <a:off x="6786720" y="1828800"/>
            <a:ext cx="2357280" cy="2666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x_ray"/>
          <p:cNvPicPr/>
          <p:nvPr/>
        </p:nvPicPr>
        <p:blipFill>
          <a:blip r:embed="rId2"/>
          <a:stretch/>
        </p:blipFill>
        <p:spPr>
          <a:xfrm>
            <a:off x="4648320" y="1905120"/>
            <a:ext cx="202068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75e47"/>
                </a:solidFill>
                <a:latin typeface="Times New Roman"/>
              </a:rPr>
              <a:t>Carcinogen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Radiation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X Rays, UV lig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hemicals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tar from cigarett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irus infection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papilloma virus can be responsible for cervical canc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ereditary predisposition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– Some families are </a:t>
            </a:r>
            <a:r>
              <a:rPr b="0" lang="en-GB" sz="2800" spc="-1" strike="noStrike" u="sng">
                <a:solidFill>
                  <a:srgbClr val="2f2b20"/>
                </a:solidFill>
                <a:uFillTx/>
                <a:latin typeface="Times New Roman"/>
              </a:rPr>
              <a:t>more susceptible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to getting certain cancers. Remember </a:t>
            </a:r>
            <a:r>
              <a:rPr b="0" i="1" lang="en-GB" sz="2800" spc="-1" strike="noStrike" u="sng">
                <a:solidFill>
                  <a:srgbClr val="2f2b20"/>
                </a:solidFill>
                <a:uFillTx/>
                <a:latin typeface="Times New Roman"/>
              </a:rPr>
              <a:t>you can’t inherit cancer</a:t>
            </a:r>
            <a:r>
              <a:rPr b="0" lang="en-GB" sz="2800" spc="-1" strike="noStrike">
                <a:solidFill>
                  <a:srgbClr val="2f2b20"/>
                </a:solidFill>
                <a:latin typeface="Times New Roman"/>
              </a:rPr>
              <a:t> its just that you maybe more susceptible to getting it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984240" y="1128600"/>
            <a:ext cx="717408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7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2157480" y="782640"/>
            <a:ext cx="4827600" cy="58118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</a:rPr>
              <a:t>Factors Believed to Contribute to Global Causes of Canc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Figure 16.2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4"/>
          <p:cNvSpPr/>
          <p:nvPr/>
        </p:nvSpPr>
        <p:spPr>
          <a:xfrm>
            <a:off x="1091160" y="148608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0" name="Picture 3" descr="virginPPslide_0002_Vector-Smart-Object.png"/>
          <p:cNvPicPr/>
          <p:nvPr/>
        </p:nvPicPr>
        <p:blipFill>
          <a:blip r:embed="rId1"/>
          <a:stretch/>
        </p:blipFill>
        <p:spPr>
          <a:xfrm>
            <a:off x="152280" y="5867280"/>
            <a:ext cx="2041560" cy="7938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6"/>
          <p:cNvSpPr/>
          <p:nvPr/>
        </p:nvSpPr>
        <p:spPr>
          <a:xfrm>
            <a:off x="685800" y="22860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WHICH CAUSES OF CANCER CAN YOU CONTROL?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1135080" y="1635120"/>
            <a:ext cx="68738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smoking8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0240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0" y="4114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Smoking leads to cancer.</a:t>
            </a:r>
            <a:endParaRPr b="0" lang="en-US" sz="8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Times New Roman"/>
                <a:ea typeface="MS PGothic"/>
              </a:rPr>
              <a:t>Organ-Specific Carcinogens in Tobacco Smok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drawingml/2006/table">
            <a:tbl>
              <a:tblPr/>
              <a:tblGrid>
                <a:gridCol w="2214720"/>
                <a:gridCol w="6929280"/>
              </a:tblGrid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Organ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Carcinogen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Lung, larynx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Polycyclic aromatic hydrocarbons 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[4-(Methylnitrosoamino)-1-(3-pyridyl)-1-butanone (NNK)], Polonium 210</a:t>
                      </a:r>
                      <a:endParaRPr b="0" lang="en-US" sz="12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Esophagu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-Nitrosonornicotine (NNN)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NNK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Bladde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4-Aminobiphenyl, 2 naphthylamine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Oral cavity (smoking)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Polycyclic aromatic hydrocarbons, NNK, NNN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Oral cavity (snuff)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Ｐゴシック"/>
                        </a:rPr>
                        <a:t>NNK, NNN, Polonium 210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04560" y="304920"/>
            <a:ext cx="8381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ell may divide </a:t>
            </a: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  <a:ea typeface="MS PGothic"/>
              </a:rPr>
              <a:t>indefinitely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  <a:ea typeface="MS PGothic"/>
              </a:rPr>
              <a:t> if they have a continual supply of nutrients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  <a:ea typeface="MS PGothic"/>
              </a:rPr>
              <a:t>*In contrast, nearly all mammalian cells divide 20 to 50 times under culture conditions before they stop, age, and di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9a0a"/>
                </a:solidFill>
                <a:latin typeface="Times New Roman"/>
                <a:ea typeface="MS PGothic"/>
              </a:rPr>
              <a:t>Did you know…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cer cells may be “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Times New Roman"/>
                <a:ea typeface="MS PGothic"/>
              </a:rPr>
              <a:t>immortal</a:t>
            </a:r>
            <a:r>
              <a:rPr b="0" lang="en-US" sz="3600" spc="-1" strike="noStrike">
                <a:solidFill>
                  <a:srgbClr val="2f2b20"/>
                </a:solidFill>
                <a:latin typeface="Times New Roman"/>
                <a:ea typeface="MS PGothic"/>
              </a:rPr>
              <a:t>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2" marL="1085760" indent="-22860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ells from a tumor removed from a woman (Henrietta Lacks) in 1951 are still reproducing in culture!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Cancer_cell,%20brain"/>
          <p:cNvPicPr/>
          <p:nvPr/>
        </p:nvPicPr>
        <p:blipFill>
          <a:blip r:embed="rId1"/>
          <a:stretch/>
        </p:blipFill>
        <p:spPr>
          <a:xfrm>
            <a:off x="0" y="0"/>
            <a:ext cx="4762440" cy="3753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oralCancer"/>
          <p:cNvPicPr/>
          <p:nvPr/>
        </p:nvPicPr>
        <p:blipFill>
          <a:blip r:embed="rId2"/>
          <a:stretch/>
        </p:blipFill>
        <p:spPr>
          <a:xfrm>
            <a:off x="5257800" y="0"/>
            <a:ext cx="3228840" cy="31813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MM-005"/>
          <p:cNvPicPr/>
          <p:nvPr/>
        </p:nvPicPr>
        <p:blipFill>
          <a:blip r:embed="rId3"/>
          <a:stretch/>
        </p:blipFill>
        <p:spPr>
          <a:xfrm>
            <a:off x="914400" y="3962520"/>
            <a:ext cx="3427560" cy="25938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BreastCancerCell"/>
          <p:cNvPicPr/>
          <p:nvPr/>
        </p:nvPicPr>
        <p:blipFill>
          <a:blip r:embed="rId4"/>
          <a:stretch/>
        </p:blipFill>
        <p:spPr>
          <a:xfrm>
            <a:off x="5021280" y="3560760"/>
            <a:ext cx="4122720" cy="32972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6"/>
          <p:cNvSpPr/>
          <p:nvPr/>
        </p:nvSpPr>
        <p:spPr>
          <a:xfrm>
            <a:off x="3808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in cancer cells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486400" y="2514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ＭＳ Ｐゴシック"/>
              </a:rPr>
              <a:t>Oral cancer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74" name="Picture 8" descr="BreastCancerCell"/>
          <p:cNvPicPr/>
          <p:nvPr/>
        </p:nvPicPr>
        <p:blipFill>
          <a:blip r:embed="rId5"/>
          <a:stretch/>
        </p:blipFill>
        <p:spPr>
          <a:xfrm>
            <a:off x="5021280" y="3560760"/>
            <a:ext cx="4122720" cy="3297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9"/>
          <p:cNvSpPr/>
          <p:nvPr/>
        </p:nvSpPr>
        <p:spPr>
          <a:xfrm>
            <a:off x="1219320" y="5943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kin cancer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57800" y="6216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east cancer cell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75e47"/>
                </a:solidFill>
                <a:latin typeface="Times New Roman"/>
                <a:ea typeface="MS PGothic"/>
              </a:rPr>
              <a:t>5 Phases of the Cell Cycle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114300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ter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ta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na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eloph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5" name="Line 5"/>
          <p:cNvSpPr/>
          <p:nvPr/>
        </p:nvSpPr>
        <p:spPr>
          <a:xfrm flipH="1" flipV="1">
            <a:off x="2286000" y="2438280"/>
            <a:ext cx="1371600" cy="45720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H="1">
            <a:off x="2362320" y="2895480"/>
            <a:ext cx="1295280" cy="106704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H="1">
            <a:off x="2437920" y="2895480"/>
            <a:ext cx="1143000" cy="763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2362320" y="2895480"/>
            <a:ext cx="1295280" cy="5335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595680" y="2638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Mitosi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80" name="Picture 16" descr="Mitosis"/>
          <p:cNvPicPr/>
          <p:nvPr/>
        </p:nvPicPr>
        <p:blipFill>
          <a:blip r:embed="rId1"/>
          <a:srcRect l="0" t="446" r="0" b="0"/>
          <a:stretch/>
        </p:blipFill>
        <p:spPr>
          <a:xfrm>
            <a:off x="5834160" y="1371600"/>
            <a:ext cx="3309840" cy="4876920"/>
          </a:xfrm>
          <a:prstGeom prst="rect">
            <a:avLst/>
          </a:prstGeom>
          <a:ln w="0">
            <a:noFill/>
          </a:ln>
        </p:spPr>
      </p:pic>
      <p:sp>
        <p:nvSpPr>
          <p:cNvPr id="281" name="Line 17"/>
          <p:cNvSpPr/>
          <p:nvPr/>
        </p:nvSpPr>
        <p:spPr>
          <a:xfrm flipV="1">
            <a:off x="4648320" y="2209680"/>
            <a:ext cx="1143000" cy="6667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4648320" y="2876400"/>
            <a:ext cx="1143000" cy="25909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4648320" y="2876400"/>
            <a:ext cx="1066680" cy="763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4648320" y="2876400"/>
            <a:ext cx="1143000" cy="1219320"/>
          </a:xfrm>
          <a:prstGeom prst="line">
            <a:avLst/>
          </a:prstGeom>
          <a:ln w="93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Anim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6520" y="1981080"/>
            <a:ext cx="3811680" cy="4114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29" descr="mitosis2d anim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14240" y="759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N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TER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228600" y="762120"/>
            <a:ext cx="8915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In between</a:t>
            </a:r>
            <a:r>
              <a:rPr b="0" lang="en-US" sz="3000" spc="-1" strike="noStrike">
                <a:solidFill>
                  <a:srgbClr val="2f2b20"/>
                </a:solidFill>
                <a:latin typeface="Times New Roman"/>
              </a:rPr>
              <a:t> divisions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Times New Roman"/>
              </a:rPr>
              <a:t>Cells are in this phase most of the time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Times New Roman"/>
              </a:rPr>
              <a:t>See nucleus because DNA is spread out as </a:t>
            </a:r>
            <a:r>
              <a:rPr b="0" lang="en-US" sz="3000" spc="-1" strike="noStrike" u="sng">
                <a:solidFill>
                  <a:srgbClr val="2f2b20"/>
                </a:solidFill>
                <a:uFillTx/>
                <a:latin typeface="Times New Roman"/>
              </a:rPr>
              <a:t>chromatin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Times New Roman"/>
                <a:ea typeface="MS PGothic"/>
              </a:rPr>
              <a:t>Can’t see individual chromosomes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91" name="Picture 5" descr="inter"/>
          <p:cNvPicPr/>
          <p:nvPr/>
        </p:nvPicPr>
        <p:blipFill>
          <a:blip r:embed="rId1"/>
          <a:stretch/>
        </p:blipFill>
        <p:spPr>
          <a:xfrm>
            <a:off x="4495680" y="3733920"/>
            <a:ext cx="4267440" cy="29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2"/>
          <a:srcRect l="0" t="37002" r="66030" b="4407"/>
          <a:stretch/>
        </p:blipFill>
        <p:spPr>
          <a:xfrm>
            <a:off x="533520" y="3809880"/>
            <a:ext cx="3081240" cy="2819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293" name="Rectangle 14"/>
          <p:cNvSpPr/>
          <p:nvPr/>
        </p:nvSpPr>
        <p:spPr>
          <a:xfrm>
            <a:off x="3276720" y="50292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3886200" y="4952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3886200" y="5257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3276720" y="5105520"/>
            <a:ext cx="304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Times New Roman"/>
                <a:ea typeface="MS PGothic"/>
              </a:rPr>
              <a:t>Interpha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are three stages of interph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1: Cell growth, Organelles doub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: DNA replicated and chromosomes duplica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2: preparation for mitosis, proteins synthesiz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299" name="Picture 4" descr="Mitosis_interphase2_1000x"/>
          <p:cNvPicPr/>
          <p:nvPr/>
        </p:nvPicPr>
        <p:blipFill>
          <a:blip r:embed="rId1"/>
          <a:stretch/>
        </p:blipFill>
        <p:spPr>
          <a:xfrm>
            <a:off x="152280" y="45720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13336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74320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RO</a:t>
            </a:r>
            <a:r>
              <a:rPr b="1" lang="en-US" sz="4000" spc="-1" strike="noStrike">
                <a:solidFill>
                  <a:srgbClr val="2f2b20"/>
                </a:solidFill>
                <a:latin typeface="Calibri"/>
              </a:rPr>
              <a:t>PHASE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80880" y="1219320"/>
            <a:ext cx="808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  <a:ea typeface="ＭＳ Ｐゴシック"/>
              </a:rPr>
              <a:t>st</a:t>
            </a: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dividing phase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DNA scrunches into </a:t>
            </a:r>
            <a:r>
              <a:rPr b="0" lang="en-US" sz="4000" spc="-1" strike="noStrike" u="sng">
                <a:solidFill>
                  <a:srgbClr val="2f2b20"/>
                </a:solidFill>
                <a:uFillTx/>
                <a:latin typeface="Times New Roman"/>
                <a:ea typeface="ＭＳ Ｐゴシック"/>
              </a:rPr>
              <a:t>chromosomes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Nuclear membrane disappears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f2b20"/>
                </a:solidFill>
                <a:uFillTx/>
                <a:latin typeface="Times New Roman"/>
                <a:ea typeface="ＭＳ Ｐゴシック"/>
              </a:rPr>
              <a:t>Centrioles</a:t>
            </a:r>
            <a:r>
              <a:rPr b="0" lang="en-US" sz="4000" spc="-1" strike="noStrike">
                <a:solidFill>
                  <a:srgbClr val="2f2b20"/>
                </a:solidFill>
                <a:latin typeface="Times New Roman"/>
                <a:ea typeface="ＭＳ Ｐゴシック"/>
              </a:rPr>
              <a:t> produce spindle fibers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066680" y="5319720"/>
            <a:ext cx="449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304" name="Picture 8" descr="prophase drawing"/>
          <p:cNvPicPr/>
          <p:nvPr/>
        </p:nvPicPr>
        <p:blipFill>
          <a:blip r:embed="rId1"/>
          <a:stretch/>
        </p:blipFill>
        <p:spPr>
          <a:xfrm>
            <a:off x="533520" y="396252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81916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0:47:30Z</dcterms:created>
  <dc:creator>Zebulon Holsopple</dc:creator>
  <dc:description/>
  <cp:keywords/>
  <dc:language>en-US</dc:language>
  <cp:lastModifiedBy>Geneva Jost</cp:lastModifiedBy>
  <dcterms:modified xsi:type="dcterms:W3CDTF">2016-12-12T14:32:34Z</dcterms:modified>
  <cp:revision>196</cp:revision>
  <dc:subject>Biology Honors</dc:subject>
  <dc:title>1.2.2_Notes_MitosisAndCancer</dc:title>
</cp:coreProperties>
</file>